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EF5-2361-4690-9779-FFA859EE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B45-6A34-461D-A70F-4B434216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4AF-B665-45C3-A81F-EDDEC9F4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5F1-D01F-42C2-A971-C3B8AFE2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F52-51AE-485E-9A9E-222A0006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3CA-67A0-46FD-A54C-68FCC771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E34-9ABD-4EF9-9806-2D7A4171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8F1-3C48-4172-8283-A8F68B04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2B0-4527-47F0-8012-AC427EFA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2AD-806D-4111-9C18-7C050446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7C5-089E-4D28-9711-C5823616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76A-4326-4110-A949-E64CEE06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968-0475-4827-BA91-4B4621C8A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llaneshighschool.wikispaces.com/" TargetMode="External"/><Relationship Id="rId4" Type="http://schemas.openxmlformats.org/officeDocument/2006/relationships/hyperlink" Target="http://llaneshighschool.wikispaces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ikispaces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1247760" cy="352440"/>
          </a:xfrm>
          <a:prstGeom prst="rect">
            <a:avLst/>
          </a:prstGeom>
          <a:ln w="0">
            <a:noFill/>
          </a:ln>
        </p:spPr>
      </p:pic>
      <p:pic>
        <p:nvPicPr>
          <p:cNvPr id="42" name="llaneshighschool » home_1234373919739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5556240" cy="33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68360" y="764640"/>
            <a:ext cx="384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Tutorial de Wiki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98800" y="1987920"/>
            <a:ext cx="724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menzar a escri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. Entra en el Wiki del curso: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Times New Roman"/>
                <a:ea typeface="바탕"/>
                <a:hlinkClick r:id="rId3"/>
              </a:rPr>
              <a:t>http://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Times New Roman"/>
                <a:ea typeface="바탕"/>
                <a:hlinkClick r:id="rId4"/>
              </a:rPr>
              <a:t>llaneshighschool.wikispace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ándida Gallar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1720" y="615600"/>
            <a:ext cx="413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. Identifícate haciendo clic e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ign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Wikispaces » signin_1234373821639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303640" cy="180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76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3080" y="2839680"/>
            <a:ext cx="775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3. Abre la pági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º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Puedes acceder desde el menú de naveg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zquie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llaneshighschool » 1ºC_1234374327859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4505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laneshighschool » Alicia, Javier y Christian_1234374697152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1095480" cy="431640"/>
          </a:xfrm>
          <a:prstGeom prst="rect">
            <a:avLst/>
          </a:prstGeom>
          <a:ln w="0">
            <a:noFill/>
          </a:ln>
        </p:spPr>
      </p:pic>
      <p:pic>
        <p:nvPicPr>
          <p:cNvPr id="51" name="llaneshighschool » Alicia, Javier y Christian_1234374563799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540072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7120" y="119592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5. Seleccion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di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0720" y="61992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hora ab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583236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430560" cy="43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27640" y="3141720"/>
            <a:ext cx="237960" cy="15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482760" cy="431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47720" y="471960"/>
            <a:ext cx="479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6. Te aparecerá e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barra de herramien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3924360" y="382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8160" y="2059560"/>
            <a:ext cx="686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te botón vamos a utilizarlo para crear enlaces con páginas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ternas al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el texto que aparecerá resaltado como en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ternal lin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0720" y="327888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91040" y="4004280"/>
            <a:ext cx="69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iminar un enl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Selecciona el texto resaltado y haz clic 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te botó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7240" y="3357720"/>
            <a:ext cx="21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e la 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36400" cy="474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287640" cy="218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2800440" cy="3213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2400" y="338760"/>
            <a:ext cx="797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 imáge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Las imágenes que vamos a insertar pueden proce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dos sit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. de nuestro ordenad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el botó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:        se te abrirá una ventana como la que apare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en la imagen inf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120" y="1960920"/>
            <a:ext cx="8478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clic sobr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aminar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ara seleccionar una imagen de tu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la imagen y haz clic sobr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bri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En la venta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aminar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parece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a dirección del arch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clic e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Upload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ara subir la imagen y guardarla en tu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doble clic sobre la imagen que deseas insertar en el Wik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83480"/>
            <a:ext cx="8064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algún sitio web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Esta vez se trata de una imagen que se encuentra en algún otro servidor y de la que tenemos que copiar su dirección d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el botón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ra abrir la ventana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sertar imágenes o arch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358920" cy="272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1555560"/>
            <a:ext cx="79930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cribe 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irección UR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de la imagen en la caja de texto inf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n un doble clic sobre la imagen la insertarás en el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ómo obtener la dirección URL de una im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y algunos sitios de donde obtener imágenes, por ejemplo: Imágenes de Goo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encima de la imagen eleg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bre el menú con  el botón derecho del r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r la ruta de la im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vuelta a nuestra Wiki, en la caja de texto inferior haz clic sobre el botón derecho del ratón y seleccion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eg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3960" cy="417600"/>
          </a:xfrm>
          <a:prstGeom prst="rect">
            <a:avLst/>
          </a:prstGeom>
          <a:ln w="0">
            <a:noFill/>
          </a:ln>
        </p:spPr>
      </p:pic>
      <p:pic>
        <p:nvPicPr>
          <p:cNvPr id="75" name="YouTube - Elizabeth Gilbert- A new way to think about creativity_1234380829239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952720" cy="924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419640" y="3573360"/>
            <a:ext cx="540036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7560"/>
            <a:ext cx="80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 un video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os pasos a seguir será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바탕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el vídeo de cualquiera de los servicios de Internet como por ejemplo: 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 el código html ,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 código de la caj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, que se encuentra a la derecha del video haciendo clic encima de él y con el botón derecho del ratón seleccio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30805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vuelta a la Wiki, haz clic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3427920"/>
            <a:ext cx="398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Seleccio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Other 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eg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 código que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do en el cuad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text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9600" y="655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9:43:13Z</dcterms:created>
  <dc:creator>Candi</dc:creator>
  <dc:description/>
  <dc:language>en-US</dc:language>
  <cp:lastModifiedBy>Candi</cp:lastModifiedBy>
  <dcterms:modified xsi:type="dcterms:W3CDTF">2009-02-11T21:46:04Z</dcterms:modified>
  <cp:revision>9</cp:revision>
  <dc:subject/>
  <dc:title>Diapositiva 1</dc:title>
</cp:coreProperties>
</file>